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4678-8D64-42BA-A0FE-171131C4C3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IV and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at unsafe sex is so prevalent in South Afric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women in South Africa feel they must have sex when as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 government do to change these statis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– Human Immunodeficiency Viru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DS – Auto Immune Deficiency Syndrome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he name given to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affects your immune system (the way your body fights illness and inf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 so that your body can no longer defend itself. This is A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luenza (flu), Polio, 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are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nsist of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or RNA (which hold the information about the virus, like your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tein coat (to protect the DNA/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is a parasite which cannot reproduce on its ow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needs another living thing to surv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nfects the cells of your body and ‘hijacks’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dsorption &amp; Ent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cells stop doing what they’re supposed to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make copies of the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plication &amp; Assemb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ruses are released and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o infect oth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l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do not die from AIDS, they die because their bodies cannot fight off infections from other disease-causing organis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7F51-187B-4059-9CFE-1EFB9AD4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710-F1B3-486F-BF88-1B5AE2ED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52B1-ADDF-4FAE-9891-60F181A2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747-0C74-42A4-B0C3-C13DB9626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B4F-ED74-4F61-93C7-FEB326B2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00BB-D818-4EE8-956D-6AF68027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000-F205-4640-AC55-8CEBE05E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EAE-37CF-474D-B5F7-288ABD4C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66A-8A8E-457D-8FF5-855B9064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515-C481-4F6A-AB7C-34968DB0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D0F-65FD-43A6-821B-EBDA7C8C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A855-DE2A-4E91-9AD6-02D8909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D22A-DD9B-430E-8416-DE3C59A7A4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57680" y="1752480"/>
            <a:ext cx="3429000" cy="335304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2"/>
          <a:stretch/>
        </p:blipFill>
        <p:spPr>
          <a:xfrm>
            <a:off x="689040" y="2359080"/>
            <a:ext cx="77724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V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outh Africa has an estimated five million people living with HIV - more than any other n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ctivists say some 600 South Africans die from Aids-related diseases each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8" descr="aids_by_age"/>
          <p:cNvPicPr/>
          <p:nvPr/>
        </p:nvPicPr>
        <p:blipFill>
          <a:blip r:embed="rId1"/>
          <a:stretch/>
        </p:blipFill>
        <p:spPr>
          <a:xfrm>
            <a:off x="2411280" y="3390840"/>
            <a:ext cx="44308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ds is predicted to cause a huge rise in the country's death rate over the next two decades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0" descr="2"/>
          <p:cNvPicPr/>
          <p:nvPr/>
        </p:nvPicPr>
        <p:blipFill>
          <a:blip r:embed="rId1"/>
          <a:srcRect l="0" t="0" r="0" b="10506"/>
          <a:stretch/>
        </p:blipFill>
        <p:spPr>
          <a:xfrm>
            <a:off x="1763640" y="1509840"/>
            <a:ext cx="5975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ers say that people who use and abuse alcohol are at both greater risk of contracting Aids, and infecting oth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survey conducted in Carltonville in South Africa revealed that men who drink are four times more likely to be HIV posi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4"/>
          <p:cNvPicPr/>
          <p:nvPr/>
        </p:nvPicPr>
        <p:blipFill>
          <a:blip r:embed="rId1"/>
          <a:srcRect l="0" t="0" r="0" b="17221"/>
          <a:stretch/>
        </p:blipFill>
        <p:spPr>
          <a:xfrm>
            <a:off x="2195640" y="2467080"/>
            <a:ext cx="53053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safe Sex in South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5"/>
          <p:cNvPicPr/>
          <p:nvPr/>
        </p:nvPicPr>
        <p:blipFill>
          <a:blip r:embed="rId1"/>
          <a:srcRect l="0" t="0" r="0" b="9284"/>
          <a:stretch/>
        </p:blipFill>
        <p:spPr>
          <a:xfrm>
            <a:off x="179280" y="1413000"/>
            <a:ext cx="5832720" cy="5290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5940360" y="1628640"/>
            <a:ext cx="3203640" cy="71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that unsafe sex is so prevalent in South Afric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y do you think women in South Africa feel they must have sex when ask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ial"/>
              </a:rPr>
              <a:t>What could the government do to change these statistic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IV prevalence rates in women under 20 have fallen since 1998, suggesting that Aids awareness campaigns are having an impa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6"/>
          <p:cNvPicPr/>
          <p:nvPr/>
        </p:nvPicPr>
        <p:blipFill>
          <a:blip r:embed="rId1"/>
          <a:srcRect l="0" t="0" r="0" b="17221"/>
          <a:stretch/>
        </p:blipFill>
        <p:spPr>
          <a:xfrm>
            <a:off x="1332000" y="1197000"/>
            <a:ext cx="6696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2152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I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man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od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V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ru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ID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uto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I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mune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D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ficiency 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yndrome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57120" y="278604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is the name given to a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affects your immune system (the way your body fights illness and inf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•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IV stops your immune system from working properly so that your body can no longer defend itself. This is A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Viru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58920" y="2773440"/>
            <a:ext cx="6572160" cy="2600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668840" y="4799160"/>
            <a:ext cx="31431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642960" y="550872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fluenza (flu), Polio, Smallp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179280" y="1117440"/>
            <a:ext cx="764388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ruses are mic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y consist of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NA or RNA (which hold the information about the virus, like your D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 protein coat (to protect the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a virus ‘work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7120" y="1500120"/>
            <a:ext cx="835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A virus is a parasite which cannot reproduce on its ow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needs another living thing to surv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t infects the cells of your body and ‘hijacks’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dsorption &amp; Entr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Your cells stop doing what they’re supposed to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instead make copies of th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plication &amp; Assembly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The new viruses are released and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Arial"/>
              </a:rPr>
              <a:t>on to infect other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eleas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6227640" y="1081080"/>
            <a:ext cx="23320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s It Al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Viruses have characteristics of living things but, in some ways, could be said to be non-living – what do you think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member – Living thing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produ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en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r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p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t rid of wa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ed ener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it sprea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virus needs to make its way from one ‘host’ to an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an happen in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irbor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nsfer of body flu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rough a ‘carrier’ (mala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IV is transferred ONLY through transfer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n you think of any examples of body fluids that could spread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ow much of each body fluid do you think needs to be transferred for someone to become infected with HIV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does AIDS affect yo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IV stops your immune system from working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means an illness that is not very serious for you and me can become life threatening to someone with H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eople do not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di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from AIDS, they die because their bodies cannot fight off infections from other disease-causing 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nue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AIDS_Map_Adults1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aids_africa"/>
          <p:cNvPicPr/>
          <p:nvPr/>
        </p:nvPicPr>
        <p:blipFill>
          <a:blip r:embed="rId1"/>
          <a:stretch/>
        </p:blipFill>
        <p:spPr>
          <a:xfrm>
            <a:off x="900000" y="0"/>
            <a:ext cx="7272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6:31:29Z</dcterms:created>
  <dc:creator>Philip Robinson</dc:creator>
  <dc:description/>
  <dc:language>en-US</dc:language>
  <cp:lastModifiedBy>RomaK</cp:lastModifiedBy>
  <dcterms:modified xsi:type="dcterms:W3CDTF">2015-09-04T12:21:32Z</dcterms:modified>
  <cp:revision>11</cp:revision>
  <dc:subject/>
  <dc:title>HIV and AIDS</dc:title>
</cp:coreProperties>
</file>